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A3E-119B-411A-B06B-809496B2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46F-DDFD-4928-AFA4-10095C1B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52D-B1D0-4555-B837-15A5C0B0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4F5-A01D-43BC-A788-8FFCBC2F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E40-C92B-420B-9947-6B880BED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4BE-23D8-446D-ACF4-E702A623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1CF-C8BA-435E-B0D6-8C40A10B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2A0-3674-4651-83A1-CA402C37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ADB-0D3C-4C62-8DED-C706E05B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DDA-AB39-4B0A-AD22-44255E00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08A-AADB-49BE-8285-35EC790C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853-5033-4A45-B1CE-BE8E7779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B37E-90B5-4700-A4B2-AE12D5EFF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13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9.xml"/><Relationship Id="rId9" Type="http://schemas.openxmlformats.org/officeDocument/2006/relationships/slide" Target=""/><Relationship Id="rId10" Type="http://schemas.openxmlformats.org/officeDocument/2006/relationships/slide" Target="slide6.xml"/><Relationship Id="rId11" Type="http://schemas.openxmlformats.org/officeDocument/2006/relationships/slide" Target=""/><Relationship Id="rId12" Type="http://schemas.openxmlformats.org/officeDocument/2006/relationships/slide" Target="slide11.xml"/><Relationship Id="rId13" Type="http://schemas.openxmlformats.org/officeDocument/2006/relationships/slide" Target=""/><Relationship Id="rId14" Type="http://schemas.openxmlformats.org/officeDocument/2006/relationships/slide" Target="slide20.xml"/><Relationship Id="rId15" Type="http://schemas.openxmlformats.org/officeDocument/2006/relationships/slide" Target=""/><Relationship Id="rId16" Type="http://schemas.openxmlformats.org/officeDocument/2006/relationships/slide" Target="slide21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5.xml"/><Relationship Id="rId20" Type="http://schemas.openxmlformats.org/officeDocument/2006/relationships/slide" Target=""/><Relationship Id="rId21" Type="http://schemas.openxmlformats.org/officeDocument/2006/relationships/slide" Target="slide10.xml"/><Relationship Id="rId22" Type="http://schemas.openxmlformats.org/officeDocument/2006/relationships/slide" Target=""/><Relationship Id="rId23" Type="http://schemas.openxmlformats.org/officeDocument/2006/relationships/slide" Target="slide15.xml"/><Relationship Id="rId24" Type="http://schemas.openxmlformats.org/officeDocument/2006/relationships/slide" Target=""/><Relationship Id="rId25" Type="http://schemas.openxmlformats.org/officeDocument/2006/relationships/slide" Target="slide14.xml"/><Relationship Id="rId26" Type="http://schemas.openxmlformats.org/officeDocument/2006/relationships/slide" Target=""/><Relationship Id="rId27" Type="http://schemas.openxmlformats.org/officeDocument/2006/relationships/slide" Target="slide16.xml"/><Relationship Id="rId28" Type="http://schemas.openxmlformats.org/officeDocument/2006/relationships/slide" Target=""/><Relationship Id="rId29" Type="http://schemas.openxmlformats.org/officeDocument/2006/relationships/slide" Target="slide4.xml"/><Relationship Id="rId30" Type="http://schemas.openxmlformats.org/officeDocument/2006/relationships/slide" Target="slide6.xml"/><Relationship Id="rId31" Type="http://schemas.openxmlformats.org/officeDocument/2006/relationships/slide" Target="slide18.xml"/><Relationship Id="rId32" Type="http://schemas.openxmlformats.org/officeDocument/2006/relationships/slide" Target=""/><Relationship Id="rId33" Type="http://schemas.openxmlformats.org/officeDocument/2006/relationships/slide" Target="slide7.xml"/><Relationship Id="rId34" Type="http://schemas.openxmlformats.org/officeDocument/2006/relationships/slide" Target=""/><Relationship Id="rId35" Type="http://schemas.openxmlformats.org/officeDocument/2006/relationships/slide" Target="slide12.xml"/><Relationship Id="rId36" Type="http://schemas.openxmlformats.org/officeDocument/2006/relationships/slide" Target=""/><Relationship Id="rId37" Type="http://schemas.openxmlformats.org/officeDocument/2006/relationships/slide" Target="slide17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ton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8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eet is a type of precipitation falls from the sk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rozen form but melts upon hitting the surfac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“frozen raindrop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l is produced becaus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nse thunderstorm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ype of precipitation is often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intense thunderst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uper cool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5480" y="2711520"/>
            <a:ext cx="67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precipitation exists in liquid form but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erature below freezing. It will freeze on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lizzard is a storm associ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low temperatures, strong wind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vy blowing snow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blizz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torm associat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vy rain along with ligh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u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thunderst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rnado. This storm is associat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tating column that causes much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t hit th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orm commonly seen in the Midwestern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ones are large revolving  tropical st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d by winds b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ound a central area of low atmospheric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0492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cyclo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onsoon is a wind current in southern Asia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s heavy rains and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monso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rmometer measur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ypically contains alcohol or mercury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28600"/>
            <a:ext cx="716292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n gauge measures the amou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n that has fallen over a peri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rain gau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90512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0"/>
            <a:ext cx="20574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0"/>
            <a:ext cx="2362320" cy="1078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ather balloon is 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weather conditions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in the atmospher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weather ball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rometer measures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. It tells whether the pressure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ing or rising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2860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baro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nemometer meas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sp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0"/>
            <a:ext cx="647712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n ane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rus clouds are thin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cirrus clou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mulus clouds are referred to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ir weather clouds” they 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ot like cotton ball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loud associated with fair we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stratus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6680" y="2133720"/>
            <a:ext cx="637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clouds are low form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re referred to as “b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ather cloud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clouds made o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uds are made of a mill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oplets of water and 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clouds form high in the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look a lot like fl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uc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860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lenticular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is a type of precip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falls from the earth in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quid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28600"/>
            <a:ext cx="7238880" cy="70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s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96080" y="2384280"/>
            <a:ext cx="599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w is a type of precipitation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s from the earth in a soli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4:17Z</dcterms:created>
  <dc:creator>Jerry Myers</dc:creator>
  <dc:description>Created by Jerry Myers is 1998 for a class.</dc:description>
  <dc:language>en-US</dc:language>
  <cp:lastModifiedBy> </cp:lastModifiedBy>
  <dcterms:modified xsi:type="dcterms:W3CDTF">2009-03-17T22:25:03Z</dcterms:modified>
  <cp:revision>7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