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85C-B1A8-4FCF-BFED-0C1A35D7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A2C-1CB5-44F0-9E7F-BFA31673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3070-6A72-4408-9E60-E7862580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9A2-135B-4B5B-B6FF-DD824E7E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4916-309F-4849-8176-42594983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4B7-B116-48B6-84F7-4460B9DB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EE3-FD7C-4C99-A1F4-0A89C36A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728-4358-421D-830C-E23ECB38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D025-B59D-4DE0-BB98-9360B463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1DF-2784-41AF-A5ED-627B6B86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EF7-70B5-48CE-9F4C-1F407182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695E-485F-414B-9F37-D3EC3558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8091-E616-475B-8C46-088C4CA2C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4.jpeg"/><Relationship Id="rId3" Type="http://schemas.openxmlformats.org/officeDocument/2006/relationships/slide" Target="slide12.xml"/><Relationship Id="rId4" Type="http://schemas.openxmlformats.org/officeDocument/2006/relationships/image" Target="../media/image5.jpeg"/><Relationship Id="rId5" Type="http://schemas.openxmlformats.org/officeDocument/2006/relationships/slide" Target="slide14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image" Target="../media/image6.jpeg"/><Relationship Id="rId4" Type="http://schemas.openxmlformats.org/officeDocument/2006/relationships/slide" Target="slide17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wmf"/><Relationship Id="rId3" Type="http://schemas.openxmlformats.org/officeDocument/2006/relationships/slide" Target="slide7.xml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wmf"/><Relationship Id="rId4" Type="http://schemas.openxmlformats.org/officeDocument/2006/relationships/slide" Target="slide5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image" Target="../media/image3.wmf"/><Relationship Id="rId4" Type="http://schemas.openxmlformats.org/officeDocument/2006/relationships/slide" Target="slide11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ly misused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lston Mo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UTurnArrow">
            <a:hlinkClick r:id="rId1" action="ppaction://hlinksldjump"/>
          </p:cNvPr>
          <p:cNvSpPr/>
          <p:nvPr/>
        </p:nvSpPr>
        <p:spPr>
          <a:xfrm>
            <a:off x="5029200" y="3352680"/>
            <a:ext cx="1771560" cy="177192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920"/>
              <a:gd name="textAreaBottom" fmla="*/ 1772280 h 17719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Commonly misused wor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picture that shows the correct usage of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fter you eat all your vegetables you’ll be able to eat 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ypically d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4191120"/>
            <a:ext cx="2895480" cy="1930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952880" y="3962520"/>
            <a:ext cx="2514600" cy="1892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96080" y="464832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41911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UTurnArrow">
            <a:hlinkClick r:id="rId1" action="ppaction://hlinksldjump"/>
          </p:cNvPr>
          <p:cNvSpPr/>
          <p:nvPr/>
        </p:nvSpPr>
        <p:spPr>
          <a:xfrm>
            <a:off x="5410080" y="3429000"/>
            <a:ext cx="1771920" cy="1771560"/>
          </a:xfrm>
          <a:custGeom>
            <a:avLst/>
            <a:gdLst>
              <a:gd name="textAreaLeft" fmla="*/ 0 w 1771920"/>
              <a:gd name="textAreaRight" fmla="*/ 457200 w 177192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apita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Caro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i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alei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, D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048120" y="3886200"/>
            <a:ext cx="1749240" cy="1749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010280" y="44956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4191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UTurnArrow">
            <a:hlinkClick r:id="rId1" action="ppaction://hlinksldjump"/>
          </p:cNvPr>
          <p:cNvSpPr/>
          <p:nvPr/>
        </p:nvSpPr>
        <p:spPr>
          <a:xfrm>
            <a:off x="2960640" y="313524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ly misused word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picture that shows the correct usage of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People exercise 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tiona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ik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People write letters 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tiona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62720" y="3657600"/>
            <a:ext cx="187164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4191120"/>
            <a:ext cx="2286000" cy="1673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7924680" y="3200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10280" y="3200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UTurnArrow"/>
          <p:cNvSpPr/>
          <p:nvPr/>
        </p:nvSpPr>
        <p:spPr>
          <a:xfrm>
            <a:off x="5021280" y="304812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ly misused words.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to meet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d to g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rincip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 my child’s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rincipal’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f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8120" y="4038480"/>
            <a:ext cx="1427040" cy="1793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238880" y="4648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Commonly misused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marter th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I went 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I than w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my hai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629400" y="4572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86600" y="4191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UTurnArrow"/>
          <p:cNvSpPr/>
          <p:nvPr/>
        </p:nvSpPr>
        <p:spPr>
          <a:xfrm>
            <a:off x="4919760" y="346860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’re go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go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fair 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there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0" y="4648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48520" y="39625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UTurnArrow"/>
          <p:cNvSpPr/>
          <p:nvPr/>
        </p:nvSpPr>
        <p:spPr>
          <a:xfrm>
            <a:off x="4354560" y="3686040"/>
            <a:ext cx="1771560" cy="177192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920"/>
              <a:gd name="textAreaBottom" fmla="*/ 1772280 h 17719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job! Hope you learned a lot about commonly misused used words from this qui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33526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UTurnArrow">
            <a:hlinkClick r:id="rId2" action="ppaction://hlinksldjump"/>
          </p:cNvPr>
          <p:cNvSpPr/>
          <p:nvPr/>
        </p:nvSpPr>
        <p:spPr>
          <a:xfrm>
            <a:off x="4038480" y="3276720"/>
            <a:ext cx="1771920" cy="1771560"/>
          </a:xfrm>
          <a:custGeom>
            <a:avLst/>
            <a:gdLst>
              <a:gd name="textAreaLeft" fmla="*/ 0 w 1771920"/>
              <a:gd name="textAreaRight" fmla="*/ 457200 w 177192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Commonly misused words.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 we w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One plus one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o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the sto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81680" y="41148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UTurnArrow">
            <a:hlinkClick r:id="rId1" action="ppaction://hlinksldjump"/>
          </p:cNvPr>
          <p:cNvSpPr/>
          <p:nvPr/>
        </p:nvSpPr>
        <p:spPr>
          <a:xfrm>
            <a:off x="5238720" y="325116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ken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eggs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uman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a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200400" y="3200400"/>
            <a:ext cx="1589040" cy="1839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2:21:40Z</dcterms:created>
  <dc:creator> </dc:creator>
  <dc:description/>
  <dc:language>en-US</dc:language>
  <cp:lastModifiedBy> </cp:lastModifiedBy>
  <dcterms:modified xsi:type="dcterms:W3CDTF">2009-03-17T22:21:40Z</dcterms:modified>
  <cp:revision>3</cp:revision>
  <dc:subject/>
  <dc:title>Commonly misused words</dc:title>
</cp:coreProperties>
</file>