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9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FEFF-EA77-4A53-B87F-E5C32CD01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E91F-DD7A-41A6-AC3A-DCA527E3C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32D2-57E2-4F8E-8A9D-53BEF8289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9CBD-835E-4F4A-B889-0497EE0E7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C6A3-B17D-4FA5-B1E9-A6B5E4F71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1486-1539-45EE-A439-F5496DE08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6D33-2F15-45DB-A705-4AA418ED6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615C-E7D6-4898-9EE7-EFE6AC4EB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222A-6E12-4014-ACEF-D13E2DE5D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8393-C727-4B3E-9E07-19448C922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7CB8-6B2D-4867-B7FD-8D408B53E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E1BF-D17A-4D5D-876B-F722CB0E7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B5071-9D37-4DCB-A50C-F50374FDF2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4.jpeg"/><Relationship Id="rId3" Type="http://schemas.openxmlformats.org/officeDocument/2006/relationships/slide" Target="slide12.xml"/><Relationship Id="rId4" Type="http://schemas.openxmlformats.org/officeDocument/2006/relationships/image" Target="../media/image5.jpeg"/><Relationship Id="rId5" Type="http://schemas.openxmlformats.org/officeDocument/2006/relationships/slide" Target="slide14.xml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6.xml"/><Relationship Id="rId3" Type="http://schemas.openxmlformats.org/officeDocument/2006/relationships/image" Target="../media/image6.jpeg"/><Relationship Id="rId4" Type="http://schemas.openxmlformats.org/officeDocument/2006/relationships/slide" Target="slide17.xm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7.wmf"/><Relationship Id="rId3" Type="http://schemas.openxmlformats.org/officeDocument/2006/relationships/slide" Target="slide7.xml"/><Relationship Id="rId4" Type="http://schemas.openxmlformats.org/officeDocument/2006/relationships/image" Target="../media/image8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3.xml"/><Relationship Id="rId3" Type="http://schemas.openxmlformats.org/officeDocument/2006/relationships/image" Target="../media/image1.wmf"/><Relationship Id="rId4" Type="http://schemas.openxmlformats.org/officeDocument/2006/relationships/slide" Target="slide5.xm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6.xml"/><Relationship Id="rId3" Type="http://schemas.openxmlformats.org/officeDocument/2006/relationships/slide" Target="slide8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0.xml"/><Relationship Id="rId3" Type="http://schemas.openxmlformats.org/officeDocument/2006/relationships/image" Target="../media/image3.wmf"/><Relationship Id="rId4" Type="http://schemas.openxmlformats.org/officeDocument/2006/relationships/slide" Target="slide11.xm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only misused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Alston Mo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y Ag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back to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UTurnArrow">
            <a:hlinkClick r:id="rId1" action="ppaction://hlinksldjump"/>
          </p:cNvPr>
          <p:cNvSpPr/>
          <p:nvPr/>
        </p:nvSpPr>
        <p:spPr>
          <a:xfrm>
            <a:off x="5029200" y="3352680"/>
            <a:ext cx="1771560" cy="1771920"/>
          </a:xfrm>
          <a:custGeom>
            <a:avLst/>
            <a:gdLst>
              <a:gd name="textAreaLeft" fmla="*/ 0 w 1771560"/>
              <a:gd name="textAreaRight" fmla="*/ 457200 w 1771560"/>
              <a:gd name="textAreaTop" fmla="*/ 681480 h 1771920"/>
              <a:gd name="textAreaBottom" fmla="*/ 1772280 h 1771920"/>
            </a:gdLst>
            <a:ahLst/>
            <a:rect l="textAreaLeft" t="textAreaTop" r="textAreaRight" b="textAreaBottom"/>
            <a:pathLst>
              <a:path w="21600" h="21600">
                <a:moveTo>
                  <a:pt x="15663" y="14865"/>
                </a:moveTo>
                <a:lnTo>
                  <a:pt x="21600" y="8826"/>
                </a:lnTo>
                <a:lnTo>
                  <a:pt x="18450" y="8826"/>
                </a:lnTo>
                <a:lnTo>
                  <a:pt x="18450" y="8310"/>
                </a:lnTo>
                <a:arcTo wR="9225" hR="8310" stAng="0" swAng="-5400000"/>
                <a:arcTo wR="9225" hR="8485" stAng="16200000" swAng="-5400000"/>
                <a:lnTo>
                  <a:pt x="0" y="21600"/>
                </a:lnTo>
                <a:lnTo>
                  <a:pt x="5574" y="21600"/>
                </a:lnTo>
                <a:lnTo>
                  <a:pt x="5574" y="8310"/>
                </a:lnTo>
                <a:arcTo wR="3309" hR="2980" stAng="10800000" swAng="5400000"/>
                <a:lnTo>
                  <a:pt x="9567" y="5330"/>
                </a:lnTo>
                <a:arcTo wR="3309" hR="2980" stAng="16200000" swAng="5400000"/>
                <a:lnTo>
                  <a:pt x="12876" y="8826"/>
                </a:lnTo>
                <a:lnTo>
                  <a:pt x="9725" y="882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 Commonly misused word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the picture that shows the correct usage of the wo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After you eat all your vegetables you’ll be able to eat you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ser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ser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ypically d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04920" y="4191120"/>
            <a:ext cx="2895480" cy="19303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952880" y="3962520"/>
            <a:ext cx="2514600" cy="18921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696080" y="4648320"/>
            <a:ext cx="7621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r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the next ques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629400" y="41911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y Ag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back to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UTurnArrow">
            <a:hlinkClick r:id="rId1" action="ppaction://hlinksldjump"/>
          </p:cNvPr>
          <p:cNvSpPr/>
          <p:nvPr/>
        </p:nvSpPr>
        <p:spPr>
          <a:xfrm>
            <a:off x="5410080" y="3429000"/>
            <a:ext cx="1771920" cy="1771560"/>
          </a:xfrm>
          <a:custGeom>
            <a:avLst/>
            <a:gdLst>
              <a:gd name="textAreaLeft" fmla="*/ 0 w 1771920"/>
              <a:gd name="textAreaRight" fmla="*/ 457200 w 1771920"/>
              <a:gd name="textAreaTop" fmla="*/ 681480 h 1771560"/>
              <a:gd name="textAreaBottom" fmla="*/ 1771920 h 1771560"/>
            </a:gdLst>
            <a:ahLst/>
            <a:rect l="textAreaLeft" t="textAreaTop" r="textAreaRight" b="textAreaBottom"/>
            <a:pathLst>
              <a:path w="21600" h="21600">
                <a:moveTo>
                  <a:pt x="15663" y="14865"/>
                </a:moveTo>
                <a:lnTo>
                  <a:pt x="21600" y="8826"/>
                </a:lnTo>
                <a:lnTo>
                  <a:pt x="18450" y="8826"/>
                </a:lnTo>
                <a:lnTo>
                  <a:pt x="18450" y="8310"/>
                </a:lnTo>
                <a:arcTo wR="9225" hR="8310" stAng="0" swAng="-5400000"/>
                <a:arcTo wR="9225" hR="8485" stAng="16200000" swAng="-5400000"/>
                <a:lnTo>
                  <a:pt x="0" y="21600"/>
                </a:lnTo>
                <a:lnTo>
                  <a:pt x="5574" y="21600"/>
                </a:lnTo>
                <a:lnTo>
                  <a:pt x="5574" y="8310"/>
                </a:lnTo>
                <a:arcTo wR="3309" hR="2980" stAng="10800000" swAng="5400000"/>
                <a:lnTo>
                  <a:pt x="9567" y="5330"/>
                </a:lnTo>
                <a:arcTo wR="3309" hR="2980" stAng="16200000" swAng="5400000"/>
                <a:lnTo>
                  <a:pt x="12876" y="8826"/>
                </a:lnTo>
                <a:lnTo>
                  <a:pt x="9725" y="882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 Commonly misused words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on the correct usage of the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capital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capit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th Carolin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is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Raleig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hington, D.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3048120" y="3886200"/>
            <a:ext cx="1749240" cy="17496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010280" y="44956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r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next ques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81680" y="419112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y Ag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back to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UTurnArrow">
            <a:hlinkClick r:id="rId1" action="ppaction://hlinksldjump"/>
          </p:cNvPr>
          <p:cNvSpPr/>
          <p:nvPr/>
        </p:nvSpPr>
        <p:spPr>
          <a:xfrm>
            <a:off x="2960640" y="3135240"/>
            <a:ext cx="1771560" cy="1771560"/>
          </a:xfrm>
          <a:custGeom>
            <a:avLst/>
            <a:gdLst>
              <a:gd name="textAreaLeft" fmla="*/ 0 w 1771560"/>
              <a:gd name="textAreaRight" fmla="*/ 457200 w 1771560"/>
              <a:gd name="textAreaTop" fmla="*/ 681480 h 1771560"/>
              <a:gd name="textAreaBottom" fmla="*/ 1771920 h 1771560"/>
            </a:gdLst>
            <a:ahLst/>
            <a:rect l="textAreaLeft" t="textAreaTop" r="textAreaRight" b="textAreaBottom"/>
            <a:pathLst>
              <a:path w="21600" h="21600">
                <a:moveTo>
                  <a:pt x="15663" y="14865"/>
                </a:moveTo>
                <a:lnTo>
                  <a:pt x="21600" y="8826"/>
                </a:lnTo>
                <a:lnTo>
                  <a:pt x="18450" y="8826"/>
                </a:lnTo>
                <a:lnTo>
                  <a:pt x="18450" y="8310"/>
                </a:lnTo>
                <a:arcTo wR="9225" hR="8310" stAng="0" swAng="-5400000"/>
                <a:arcTo wR="9225" hR="8485" stAng="16200000" swAng="-5400000"/>
                <a:lnTo>
                  <a:pt x="0" y="21600"/>
                </a:lnTo>
                <a:lnTo>
                  <a:pt x="5574" y="21600"/>
                </a:lnTo>
                <a:lnTo>
                  <a:pt x="5574" y="8310"/>
                </a:lnTo>
                <a:arcTo wR="3309" hR="2980" stAng="10800000" swAng="5400000"/>
                <a:lnTo>
                  <a:pt x="9567" y="5330"/>
                </a:lnTo>
                <a:arcTo wR="3309" hR="2980" stAng="16200000" swAng="5400000"/>
                <a:lnTo>
                  <a:pt x="12876" y="8826"/>
                </a:lnTo>
                <a:lnTo>
                  <a:pt x="9725" y="882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only misused words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the picture that shows the correct usage of the wo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*People exercise on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stationar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bike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*People write letters on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stationar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562720" y="3657600"/>
            <a:ext cx="1871640" cy="25146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62120" y="4191120"/>
            <a:ext cx="2286000" cy="16732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7924680" y="32004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r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the next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010280" y="32004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y Ag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back to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UTurnArrow"/>
          <p:cNvSpPr/>
          <p:nvPr/>
        </p:nvSpPr>
        <p:spPr>
          <a:xfrm>
            <a:off x="5021280" y="3048120"/>
            <a:ext cx="1771560" cy="1771560"/>
          </a:xfrm>
          <a:custGeom>
            <a:avLst/>
            <a:gdLst>
              <a:gd name="textAreaLeft" fmla="*/ 0 w 1771560"/>
              <a:gd name="textAreaRight" fmla="*/ 457200 w 1771560"/>
              <a:gd name="textAreaTop" fmla="*/ 681480 h 1771560"/>
              <a:gd name="textAreaBottom" fmla="*/ 1771920 h 1771560"/>
            </a:gdLst>
            <a:ahLst/>
            <a:rect l="textAreaLeft" t="textAreaTop" r="textAreaRight" b="textAreaBottom"/>
            <a:pathLst>
              <a:path w="21600" h="21600">
                <a:moveTo>
                  <a:pt x="15663" y="14865"/>
                </a:moveTo>
                <a:lnTo>
                  <a:pt x="21600" y="8826"/>
                </a:lnTo>
                <a:lnTo>
                  <a:pt x="18450" y="8826"/>
                </a:lnTo>
                <a:lnTo>
                  <a:pt x="18450" y="8310"/>
                </a:lnTo>
                <a:arcTo wR="9225" hR="8310" stAng="0" swAng="-5400000"/>
                <a:arcTo wR="9225" hR="8485" stAng="16200000" swAng="-5400000"/>
                <a:lnTo>
                  <a:pt x="0" y="21600"/>
                </a:lnTo>
                <a:lnTo>
                  <a:pt x="5574" y="21600"/>
                </a:lnTo>
                <a:lnTo>
                  <a:pt x="5574" y="8310"/>
                </a:lnTo>
                <a:arcTo wR="3309" hR="2980" stAng="10800000" swAng="5400000"/>
                <a:lnTo>
                  <a:pt x="9567" y="5330"/>
                </a:lnTo>
                <a:arcTo wR="3309" hR="2980" stAng="16200000" swAng="5400000"/>
                <a:lnTo>
                  <a:pt x="12876" y="8826"/>
                </a:lnTo>
                <a:lnTo>
                  <a:pt x="9725" y="882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-76212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monly misused words.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on the correct usage of the wor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have to meet t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had to go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principl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of my child’s     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principal’s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off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I w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048120" y="4038480"/>
            <a:ext cx="1427040" cy="1793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238880" y="46483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. Commonly misused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smarter th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I went to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e I than w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get my hai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629400" y="457200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r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the next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086600" y="4191120"/>
            <a:ext cx="76212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y Ag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back to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UTurnArrow"/>
          <p:cNvSpPr/>
          <p:nvPr/>
        </p:nvSpPr>
        <p:spPr>
          <a:xfrm>
            <a:off x="4919760" y="3468600"/>
            <a:ext cx="1771560" cy="1771560"/>
          </a:xfrm>
          <a:custGeom>
            <a:avLst/>
            <a:gdLst>
              <a:gd name="textAreaLeft" fmla="*/ 0 w 1771560"/>
              <a:gd name="textAreaRight" fmla="*/ 457200 w 1771560"/>
              <a:gd name="textAreaTop" fmla="*/ 681480 h 1771560"/>
              <a:gd name="textAreaBottom" fmla="*/ 1771920 h 1771560"/>
            </a:gdLst>
            <a:ahLst/>
            <a:rect l="textAreaLeft" t="textAreaTop" r="textAreaRight" b="textAreaBottom"/>
            <a:pathLst>
              <a:path w="21600" h="21600">
                <a:moveTo>
                  <a:pt x="15663" y="14865"/>
                </a:moveTo>
                <a:lnTo>
                  <a:pt x="21600" y="8826"/>
                </a:lnTo>
                <a:lnTo>
                  <a:pt x="18450" y="8826"/>
                </a:lnTo>
                <a:lnTo>
                  <a:pt x="18450" y="8310"/>
                </a:lnTo>
                <a:arcTo wR="9225" hR="8310" stAng="0" swAng="-5400000"/>
                <a:arcTo wR="9225" hR="8485" stAng="16200000" swAng="-5400000"/>
                <a:lnTo>
                  <a:pt x="0" y="21600"/>
                </a:lnTo>
                <a:lnTo>
                  <a:pt x="5574" y="21600"/>
                </a:lnTo>
                <a:lnTo>
                  <a:pt x="5574" y="8310"/>
                </a:lnTo>
                <a:arcTo wR="3309" hR="2980" stAng="10800000" swAng="5400000"/>
                <a:lnTo>
                  <a:pt x="9567" y="5330"/>
                </a:lnTo>
                <a:arcTo wR="3309" hR="2980" stAng="16200000" swAng="5400000"/>
                <a:lnTo>
                  <a:pt x="12876" y="8826"/>
                </a:lnTo>
                <a:lnTo>
                  <a:pt x="9725" y="882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. Commonly misused words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on the correct usage of the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’re go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going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the fair nex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there n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ek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use af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n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858000" y="4648320"/>
            <a:ext cx="76212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r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next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248520" y="396252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orr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back to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UTurnArrow"/>
          <p:cNvSpPr/>
          <p:nvPr/>
        </p:nvSpPr>
        <p:spPr>
          <a:xfrm>
            <a:off x="4354560" y="3686040"/>
            <a:ext cx="1771560" cy="1771920"/>
          </a:xfrm>
          <a:custGeom>
            <a:avLst/>
            <a:gdLst>
              <a:gd name="textAreaLeft" fmla="*/ 0 w 1771560"/>
              <a:gd name="textAreaRight" fmla="*/ 457200 w 1771560"/>
              <a:gd name="textAreaTop" fmla="*/ 681480 h 1771920"/>
              <a:gd name="textAreaBottom" fmla="*/ 1772280 h 1771920"/>
            </a:gdLst>
            <a:ahLst/>
            <a:rect l="textAreaLeft" t="textAreaTop" r="textAreaRight" b="textAreaBottom"/>
            <a:pathLst>
              <a:path w="21600" h="21600">
                <a:moveTo>
                  <a:pt x="15663" y="14865"/>
                </a:moveTo>
                <a:lnTo>
                  <a:pt x="21600" y="8826"/>
                </a:lnTo>
                <a:lnTo>
                  <a:pt x="18450" y="8826"/>
                </a:lnTo>
                <a:lnTo>
                  <a:pt x="18450" y="8310"/>
                </a:lnTo>
                <a:arcTo wR="9225" hR="8310" stAng="0" swAng="-5400000"/>
                <a:arcTo wR="9225" hR="8485" stAng="16200000" swAng="-5400000"/>
                <a:lnTo>
                  <a:pt x="0" y="21600"/>
                </a:lnTo>
                <a:lnTo>
                  <a:pt x="5574" y="21600"/>
                </a:lnTo>
                <a:lnTo>
                  <a:pt x="5574" y="8310"/>
                </a:lnTo>
                <a:arcTo wR="3309" hR="2980" stAng="10800000" swAng="5400000"/>
                <a:lnTo>
                  <a:pt x="9567" y="5330"/>
                </a:lnTo>
                <a:arcTo wR="3309" hR="2980" stAng="16200000" swAng="5400000"/>
                <a:lnTo>
                  <a:pt x="12876" y="8826"/>
                </a:lnTo>
                <a:lnTo>
                  <a:pt x="9725" y="882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 of Qui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job! Hope you learned a lot about commonly misused used words from this quiz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438280" y="3124080"/>
            <a:ext cx="30481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r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next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05720" y="3352680"/>
            <a:ext cx="53316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Try Ag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back to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UTurnArrow">
            <a:hlinkClick r:id="rId2" action="ppaction://hlinksldjump"/>
          </p:cNvPr>
          <p:cNvSpPr/>
          <p:nvPr/>
        </p:nvSpPr>
        <p:spPr>
          <a:xfrm>
            <a:off x="4038480" y="3276720"/>
            <a:ext cx="1771920" cy="1771560"/>
          </a:xfrm>
          <a:custGeom>
            <a:avLst/>
            <a:gdLst>
              <a:gd name="textAreaLeft" fmla="*/ 0 w 1771920"/>
              <a:gd name="textAreaRight" fmla="*/ 457200 w 1771920"/>
              <a:gd name="textAreaTop" fmla="*/ 681480 h 1771560"/>
              <a:gd name="textAreaBottom" fmla="*/ 1771920 h 1771560"/>
            </a:gdLst>
            <a:ahLst/>
            <a:rect l="textAreaLeft" t="textAreaTop" r="textAreaRight" b="textAreaBottom"/>
            <a:pathLst>
              <a:path w="21600" h="21600">
                <a:moveTo>
                  <a:pt x="15663" y="14865"/>
                </a:moveTo>
                <a:lnTo>
                  <a:pt x="21600" y="8826"/>
                </a:lnTo>
                <a:lnTo>
                  <a:pt x="18450" y="8826"/>
                </a:lnTo>
                <a:lnTo>
                  <a:pt x="18450" y="8310"/>
                </a:lnTo>
                <a:arcTo wR="9225" hR="8310" stAng="0" swAng="-5400000"/>
                <a:arcTo wR="9225" hR="8485" stAng="16200000" swAng="-5400000"/>
                <a:lnTo>
                  <a:pt x="0" y="21600"/>
                </a:lnTo>
                <a:lnTo>
                  <a:pt x="5574" y="21600"/>
                </a:lnTo>
                <a:lnTo>
                  <a:pt x="5574" y="8310"/>
                </a:lnTo>
                <a:arcTo wR="3309" hR="2980" stAng="10800000" swAng="5400000"/>
                <a:lnTo>
                  <a:pt x="9567" y="5330"/>
                </a:lnTo>
                <a:arcTo wR="3309" hR="2980" stAng="16200000" swAng="5400000"/>
                <a:lnTo>
                  <a:pt x="12876" y="8826"/>
                </a:lnTo>
                <a:lnTo>
                  <a:pt x="9725" y="882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Commonly misused words.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on the correct usage of the 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terday we w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One plus one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too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the stor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781680" y="411480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r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the next ques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553080" y="37339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y Ag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back to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UTurnArrow">
            <a:hlinkClick r:id="rId1" action="ppaction://hlinksldjump"/>
          </p:cNvPr>
          <p:cNvSpPr/>
          <p:nvPr/>
        </p:nvSpPr>
        <p:spPr>
          <a:xfrm>
            <a:off x="5238720" y="3251160"/>
            <a:ext cx="1771560" cy="1771560"/>
          </a:xfrm>
          <a:custGeom>
            <a:avLst/>
            <a:gdLst>
              <a:gd name="textAreaLeft" fmla="*/ 0 w 1771560"/>
              <a:gd name="textAreaRight" fmla="*/ 457200 w 1771560"/>
              <a:gd name="textAreaTop" fmla="*/ 681480 h 1771560"/>
              <a:gd name="textAreaBottom" fmla="*/ 1771920 h 1771560"/>
            </a:gdLst>
            <a:ahLst/>
            <a:rect l="textAreaLeft" t="textAreaTop" r="textAreaRight" b="textAreaBottom"/>
            <a:pathLst>
              <a:path w="21600" h="21600">
                <a:moveTo>
                  <a:pt x="15663" y="14865"/>
                </a:moveTo>
                <a:lnTo>
                  <a:pt x="21600" y="8826"/>
                </a:lnTo>
                <a:lnTo>
                  <a:pt x="18450" y="8826"/>
                </a:lnTo>
                <a:lnTo>
                  <a:pt x="18450" y="8310"/>
                </a:lnTo>
                <a:arcTo wR="9225" hR="8310" stAng="0" swAng="-5400000"/>
                <a:arcTo wR="9225" hR="8485" stAng="16200000" swAng="-5400000"/>
                <a:lnTo>
                  <a:pt x="0" y="21600"/>
                </a:lnTo>
                <a:lnTo>
                  <a:pt x="5574" y="21600"/>
                </a:lnTo>
                <a:lnTo>
                  <a:pt x="5574" y="8310"/>
                </a:lnTo>
                <a:arcTo wR="3309" hR="2980" stAng="10800000" swAng="5400000"/>
                <a:lnTo>
                  <a:pt x="9567" y="5330"/>
                </a:lnTo>
                <a:arcTo wR="3309" hR="2980" stAng="16200000" swAng="5400000"/>
                <a:lnTo>
                  <a:pt x="12876" y="8826"/>
                </a:lnTo>
                <a:lnTo>
                  <a:pt x="9725" y="882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Commonly misused words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on the correct usage of the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ckens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lay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eggs.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umans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lay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3200400" y="3200400"/>
            <a:ext cx="1589040" cy="18399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553080" y="37339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r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next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553080" y="37339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22:21:40Z</dcterms:created>
  <dc:creator> </dc:creator>
  <dc:description/>
  <dc:language>en-US</dc:language>
  <cp:lastModifiedBy> </cp:lastModifiedBy>
  <dcterms:modified xsi:type="dcterms:W3CDTF">2009-03-17T22:21:40Z</dcterms:modified>
  <cp:revision>3</cp:revision>
  <dc:subject/>
  <dc:title>Commonly misused words</dc:title>
</cp:coreProperties>
</file>