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AD3-5B9E-4A29-B44A-5AE85E2A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AF0-0246-4FA8-A09D-D1638A58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7B0-E450-46B4-8AD2-980C7A3C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41D-72A0-4521-9A2E-18B548A1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0F1-E122-491F-B408-0EC62A22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F50-C706-4C10-9AF6-BEFB5D12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F8D-96E9-4E79-9D27-0CF08D50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838-34DF-479C-A23C-2F05CA42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F67-4E5F-4249-954D-9E5B6DE8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911-4673-437A-AC67-40CA63D9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F47-FC8B-4406-B89F-2BB3C9C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EA9-E72E-439E-BA61-C074647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9EF7-2D38-4595-A004-5CCA9B421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" Target="slide12.xml"/><Relationship Id="rId4" Type="http://schemas.openxmlformats.org/officeDocument/2006/relationships/image" Target="../media/image5.jpeg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image" Target="../media/image6.jpe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wm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ston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TurnArrow">
            <a:hlinkClick r:id="rId1" action="ppaction://hlinksldjump"/>
          </p:cNvPr>
          <p:cNvSpPr/>
          <p:nvPr/>
        </p:nvSpPr>
        <p:spPr>
          <a:xfrm>
            <a:off x="5029200" y="335268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mmonly misused wo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fter you eat all your vegetables you’ll be able to eat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ypicall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96080" y="46483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TurnArrow">
            <a:hlinkClick r:id="rId1" action="ppaction://hlinksldjump"/>
          </p:cNvPr>
          <p:cNvSpPr/>
          <p:nvPr/>
        </p:nvSpPr>
        <p:spPr>
          <a:xfrm>
            <a:off x="5410080" y="34290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apit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i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ale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10280" y="4495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191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TurnArrow">
            <a:hlinkClick r:id="rId1" action="ppaction://hlinksldjump"/>
          </p:cNvPr>
          <p:cNvSpPr/>
          <p:nvPr/>
        </p:nvSpPr>
        <p:spPr>
          <a:xfrm>
            <a:off x="2960640" y="313524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exercise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write letters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62720" y="3657600"/>
            <a:ext cx="18716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91120"/>
            <a:ext cx="2286000" cy="167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9246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TurnArrow"/>
          <p:cNvSpPr/>
          <p:nvPr/>
        </p:nvSpPr>
        <p:spPr>
          <a:xfrm>
            <a:off x="5021280" y="304812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ly misused words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o meet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o g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my child’s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rincipa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142704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4648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marter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 went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 than w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y hai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UTurnArrow"/>
          <p:cNvSpPr/>
          <p:nvPr/>
        </p:nvSpPr>
        <p:spPr>
          <a:xfrm>
            <a:off x="4919760" y="346860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fair 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ther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UTurnArrow"/>
          <p:cNvSpPr/>
          <p:nvPr/>
        </p:nvSpPr>
        <p:spPr>
          <a:xfrm>
            <a:off x="4354560" y="368604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Hope you learned a lot about commonly misused used words from this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TurnArrow">
            <a:hlinkClick r:id="rId2" action="ppaction://hlinksldjump"/>
          </p:cNvPr>
          <p:cNvSpPr/>
          <p:nvPr/>
        </p:nvSpPr>
        <p:spPr>
          <a:xfrm>
            <a:off x="4038480" y="327672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monly misused words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we 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One plus o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 st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4114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UTurnArrow">
            <a:hlinkClick r:id="rId1" action="ppaction://hlinksldjump"/>
          </p:cNvPr>
          <p:cNvSpPr/>
          <p:nvPr/>
        </p:nvSpPr>
        <p:spPr>
          <a:xfrm>
            <a:off x="5238720" y="325116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gg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1589040" cy="183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1:40Z</dcterms:created>
  <dc:creator> </dc:creator>
  <dc:description/>
  <dc:language>en-US</dc:language>
  <cp:lastModifiedBy> </cp:lastModifiedBy>
  <dcterms:modified xsi:type="dcterms:W3CDTF">2009-03-17T22:21:40Z</dcterms:modified>
  <cp:revision>3</cp:revision>
  <dc:subject/>
  <dc:title>Commonly misused words</dc:title>
</cp:coreProperties>
</file>