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AC5-FF9A-437F-83E3-8240BD1D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E97-9CE0-4282-95E6-9FF83B62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568-0DAE-4DAA-8069-EFAE9818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3E8-F359-433E-BAAE-597131F4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584-4A8C-43E7-AEA7-C4351342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09B-564F-4A30-9945-14EBB5C4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BBE-CF4D-4214-9DD6-02400D3B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661-D365-4685-BB6C-B365DA1A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E63-B88B-425D-85DE-7C4DA69B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AC4-0870-4B61-B026-085682EA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A8A-F67B-4759-B101-06D7ADD3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9D1-7DF0-4F7B-8787-AD54CDE8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64E6-8C98-417B-9466-30583A571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.jpeg"/><Relationship Id="rId3" Type="http://schemas.openxmlformats.org/officeDocument/2006/relationships/slide" Target="slide12.xml"/><Relationship Id="rId4" Type="http://schemas.openxmlformats.org/officeDocument/2006/relationships/image" Target="../media/image5.jpeg"/><Relationship Id="rId5" Type="http://schemas.openxmlformats.org/officeDocument/2006/relationships/slide" Target="slide14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image" Target="../media/image6.jpeg"/><Relationship Id="rId4" Type="http://schemas.openxmlformats.org/officeDocument/2006/relationships/slide" Target="slide17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wmf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wmf"/><Relationship Id="rId4" Type="http://schemas.openxmlformats.org/officeDocument/2006/relationships/slide" Target="slide5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image" Target="../media/image3.wmf"/><Relationship Id="rId4" Type="http://schemas.openxmlformats.org/officeDocument/2006/relationships/slide" Target="slide11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ly misuse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lston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UTurnArrow">
            <a:hlinkClick r:id="rId1" action="ppaction://hlinksldjump"/>
          </p:cNvPr>
          <p:cNvSpPr/>
          <p:nvPr/>
        </p:nvSpPr>
        <p:spPr>
          <a:xfrm>
            <a:off x="5029200" y="3352680"/>
            <a:ext cx="1771560" cy="177192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Commonly misused wor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icture that shows the correct usage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fter you eat all your vegetables you’ll be able to eat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ypically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514600" cy="1892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96080" y="464832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4191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UTurnArrow">
            <a:hlinkClick r:id="rId1" action="ppaction://hlinksldjump"/>
          </p:cNvPr>
          <p:cNvSpPr/>
          <p:nvPr/>
        </p:nvSpPr>
        <p:spPr>
          <a:xfrm>
            <a:off x="5410080" y="342900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apita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ro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i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alei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D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1749240" cy="1749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10280" y="44956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4191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UTurnArrow">
            <a:hlinkClick r:id="rId1" action="ppaction://hlinksldjump"/>
          </p:cNvPr>
          <p:cNvSpPr/>
          <p:nvPr/>
        </p:nvSpPr>
        <p:spPr>
          <a:xfrm>
            <a:off x="2960640" y="313524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ly misused word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icture that shows the correct usage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People exercise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o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ik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People write letters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o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62720" y="3657600"/>
            <a:ext cx="187164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191120"/>
            <a:ext cx="2286000" cy="1673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9246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102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UTurnArrow"/>
          <p:cNvSpPr/>
          <p:nvPr/>
        </p:nvSpPr>
        <p:spPr>
          <a:xfrm>
            <a:off x="5021280" y="304812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ly misused words.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to meet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d to g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nci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 my child’s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rincipal’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f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1427040" cy="179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38880" y="4648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Commonly misuse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marter th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 went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I than w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my hai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86600" y="4191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UTurnArrow"/>
          <p:cNvSpPr/>
          <p:nvPr/>
        </p:nvSpPr>
        <p:spPr>
          <a:xfrm>
            <a:off x="4919760" y="346860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’re g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fair 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ther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48520" y="39625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UTurnArrow"/>
          <p:cNvSpPr/>
          <p:nvPr/>
        </p:nvSpPr>
        <p:spPr>
          <a:xfrm>
            <a:off x="4354560" y="3686040"/>
            <a:ext cx="1771560" cy="177192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job! Hope you learned a lot about commonly misused used words from this qu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3352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UTurnArrow">
            <a:hlinkClick r:id="rId2" action="ppaction://hlinksldjump"/>
          </p:cNvPr>
          <p:cNvSpPr/>
          <p:nvPr/>
        </p:nvSpPr>
        <p:spPr>
          <a:xfrm>
            <a:off x="4038480" y="327672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mmonly misused words.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 we w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One plus on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the st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1680" y="41148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UTurnArrow">
            <a:hlinkClick r:id="rId1" action="ppaction://hlinksldjump"/>
          </p:cNvPr>
          <p:cNvSpPr/>
          <p:nvPr/>
        </p:nvSpPr>
        <p:spPr>
          <a:xfrm>
            <a:off x="5238720" y="325116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ke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eggs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uma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00400" y="3200400"/>
            <a:ext cx="1589040" cy="1839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1:40Z</dcterms:created>
  <dc:creator> </dc:creator>
  <dc:description/>
  <dc:language>en-US</dc:language>
  <cp:lastModifiedBy> </cp:lastModifiedBy>
  <dcterms:modified xsi:type="dcterms:W3CDTF">2009-03-17T22:21:40Z</dcterms:modified>
  <cp:revision>3</cp:revision>
  <dc:subject/>
  <dc:title>Commonly misused words</dc:title>
</cp:coreProperties>
</file>